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1F4-41A5-42F3-81E8-A5C23BAC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165-7ABD-4C1C-B03E-FE0F57E2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DD7-8FFC-4DE0-9559-9D106B5A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0B8-7171-4430-A2AD-A7FA9C9B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309-EC79-4306-A24F-77E6472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A71-D1FB-481D-B986-B2430BA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733-87C0-4A9E-BF7D-F13447B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7FE-5763-4997-998A-1187677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24C-588E-4B74-8444-755376DA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877-1F30-43A0-A578-C104A635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AC3-340F-4708-B6E1-B093A87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7FA-9EEA-4E3C-9AFB-A0570ED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2B7-5422-4952-815F-70C1B475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63680" y="3906720"/>
            <a:ext cx="2884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Randolf Caldecott was considered by many to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be the best illustrator of children’s books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nthe world. So much so that in the USA, ther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s a prize given every year, the </a:t>
            </a:r>
            <a:r>
              <a:rPr b="0" lang="en-US" sz="700" spc="-1" strike="noStrike" u="sng">
                <a:solidFill>
                  <a:srgbClr val="808080"/>
                </a:solidFill>
                <a:uFillTx/>
                <a:latin typeface="'Palatino Linotype'"/>
              </a:rPr>
              <a:t>Caldecott Medal</a:t>
            </a: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,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for the illustrator who produces what th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judges consider to be the best illustrated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children’s book of that year.</a:t>
            </a:r>
            <a:r>
              <a:rPr b="0" lang="en-US" sz="700" spc="-1" strike="noStrike">
                <a:solidFill>
                  <a:srgbClr val="808080"/>
                </a:solidFill>
                <a:latin typeface="'Palatino Linotype'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empShape.PNG"/>
          <p:cNvPicPr/>
          <p:nvPr/>
        </p:nvPicPr>
        <p:blipFill>
          <a:blip r:embed="rId2"/>
          <a:stretch/>
        </p:blipFill>
        <p:spPr>
          <a:xfrm>
            <a:off x="485640" y="28440"/>
            <a:ext cx="267336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empShape.PNG"/>
          <p:cNvPicPr/>
          <p:nvPr/>
        </p:nvPicPr>
        <p:blipFill>
          <a:blip r:embed="rId3"/>
          <a:stretch/>
        </p:blipFill>
        <p:spPr>
          <a:xfrm>
            <a:off x="3660840" y="71280"/>
            <a:ext cx="24987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Shape.PNG"/>
          <p:cNvPicPr/>
          <p:nvPr/>
        </p:nvPicPr>
        <p:blipFill>
          <a:blip r:embed="rId2"/>
          <a:stretch/>
        </p:blipFill>
        <p:spPr>
          <a:xfrm>
            <a:off x="2279520" y="449280"/>
            <a:ext cx="619632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17440" y="949320"/>
            <a:ext cx="19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e Caldecott Medal is based on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is illustration by Randolf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Caldecott.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2160" y="20937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The illustration on the Caldecott Medal,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which is taken from Caldecott's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illustrations for "The Diverting Story of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John Gilpin," is a perfect example of the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umor, vitality, and sense of movement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found in Caldecott's work. The illustration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shows John Gilpin astride a runaway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orse, accompanied by squawking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geese, braying dogs, and startled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onlookers.</a:t>
            </a:r>
            <a:r>
              <a:rPr b="0" lang="en-US" sz="600" spc="-1" strike="noStrike">
                <a:solidFill>
                  <a:srgbClr val="808080"/>
                </a:solidFill>
                <a:latin typeface="'Palatino Linotype'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empShape.PNG"/>
          <p:cNvPicPr/>
          <p:nvPr/>
        </p:nvPicPr>
        <p:blipFill>
          <a:blip r:embed="rId2"/>
          <a:stretch/>
        </p:blipFill>
        <p:spPr>
          <a:xfrm>
            <a:off x="449280" y="44928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516640" y="808200"/>
            <a:ext cx="212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What do you see on the Caldecott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Medal?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Look at the medal for 60 seconds,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then cover it up.  See how many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elements of the design you can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emember!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 MCPS user</cp:lastModifiedBy>
  <dcterms:modified xsi:type="dcterms:W3CDTF">2012-01-23T23:53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